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101.png" ContentType="image/png"/>
  <Override PartName="/ppt/media/image79.png" ContentType="image/png"/>
  <Override PartName="/ppt/media/image78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4591-B190-4F07-B4D4-3CCAFFD8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7BA-BA3E-4DE3-B0ED-CF09D292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946-2E51-44FB-AFC5-0215F66B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BA3B-EC77-4A9C-94E4-358D1DE3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9001-3C36-46AF-A108-11360D08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BD8-8444-4425-ADF3-3ECA8A81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5096-1801-4F66-873F-2BD2832C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E3C2-AD2E-438F-A266-40EEE553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80CB-B083-4889-9CEA-F8B534B1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520-C5CD-4746-97D7-65B35AFF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397D-8C2A-4B36-A34F-4726A3B1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2C4-BDB7-485F-8F98-697EA7DE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2C4A-38CF-42BE-83C5-3B1E73C35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3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Simple Analysis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f 2 x 2 Tables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7280" y="3733920"/>
            <a:ext cx="3031560" cy="228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istical I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ypothesis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-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erval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7460"/>
          <a:stretch/>
        </p:blipFill>
        <p:spPr>
          <a:xfrm>
            <a:off x="914400" y="91440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49017"/>
          <a:stretch/>
        </p:blipFill>
        <p:spPr>
          <a:xfrm>
            <a:off x="990720" y="533520"/>
            <a:ext cx="723888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50995" r="0" b="30742"/>
          <a:stretch/>
        </p:blipFill>
        <p:spPr>
          <a:xfrm>
            <a:off x="990720" y="3962520"/>
            <a:ext cx="7238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4724280"/>
            <a:ext cx="7238880" cy="1676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0" b="49017"/>
          <a:stretch/>
        </p:blipFill>
        <p:spPr>
          <a:xfrm>
            <a:off x="990720" y="685800"/>
            <a:ext cx="723888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0" t="56665" r="0" b="30742"/>
          <a:stretch/>
        </p:blipFill>
        <p:spPr>
          <a:xfrm>
            <a:off x="990720" y="3352680"/>
            <a:ext cx="7238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14400" y="838080"/>
            <a:ext cx="7391520" cy="4953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57800" y="1219320"/>
            <a:ext cx="251460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1127" r="0" b="85292"/>
          <a:stretch/>
        </p:blipFill>
        <p:spPr>
          <a:xfrm>
            <a:off x="1143000" y="457200"/>
            <a:ext cx="7162920" cy="914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34120" y="609480"/>
            <a:ext cx="266688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0" t="21505" r="0" b="64914"/>
          <a:stretch/>
        </p:blipFill>
        <p:spPr>
          <a:xfrm>
            <a:off x="1143000" y="137160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rcRect l="0" t="35098" r="0" b="28677"/>
          <a:stretch/>
        </p:blipFill>
        <p:spPr>
          <a:xfrm>
            <a:off x="1143000" y="2286000"/>
            <a:ext cx="7162920" cy="2438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33920" y="4267080"/>
            <a:ext cx="18288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0" t="64539" r="0" b="19527"/>
          <a:stretch/>
        </p:blipFill>
        <p:spPr>
          <a:xfrm>
            <a:off x="1143000" y="4648320"/>
            <a:ext cx="7162920" cy="1676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562720" y="4419720"/>
            <a:ext cx="259056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32107"/>
          <a:stretch/>
        </p:blipFill>
        <p:spPr>
          <a:xfrm>
            <a:off x="1295280" y="457200"/>
            <a:ext cx="6629400" cy="3352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295280" y="4800600"/>
            <a:ext cx="6629400" cy="1447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05320" y="3581280"/>
            <a:ext cx="18288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rcRect l="0" t="70772" r="-4243" b="19527"/>
          <a:stretch/>
        </p:blipFill>
        <p:spPr>
          <a:xfrm>
            <a:off x="1295280" y="3733920"/>
            <a:ext cx="69343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50332" r="0" b="12918"/>
          <a:stretch/>
        </p:blipFill>
        <p:spPr>
          <a:xfrm>
            <a:off x="914400" y="2057400"/>
            <a:ext cx="746748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68219"/>
          <a:stretch/>
        </p:blipFill>
        <p:spPr>
          <a:xfrm>
            <a:off x="914400" y="457200"/>
            <a:ext cx="7467480" cy="1600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57144" t="78270" r="17350" b="8336"/>
          <a:stretch/>
        </p:blipFill>
        <p:spPr>
          <a:xfrm>
            <a:off x="5257800" y="2895480"/>
            <a:ext cx="1905120" cy="99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rcRect l="0" t="76255" r="0" b="12918"/>
          <a:stretch/>
        </p:blipFill>
        <p:spPr>
          <a:xfrm>
            <a:off x="914400" y="5486400"/>
            <a:ext cx="74674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609480"/>
            <a:ext cx="7772400" cy="5410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0" t="41069" r="0" b="45250"/>
          <a:stretch/>
        </p:blipFill>
        <p:spPr>
          <a:xfrm>
            <a:off x="914400" y="1295280"/>
            <a:ext cx="6934320" cy="685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8080" y="1219320"/>
            <a:ext cx="2286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96080" y="1219320"/>
            <a:ext cx="228600" cy="761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0" r="0" b="7798"/>
          <a:stretch/>
        </p:blipFill>
        <p:spPr>
          <a:xfrm>
            <a:off x="1066680" y="609480"/>
            <a:ext cx="7239240" cy="5410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51880" y="914400"/>
            <a:ext cx="63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Incident:  The Sinking of the Tit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25836"/>
          <a:stretch/>
        </p:blipFill>
        <p:spPr>
          <a:xfrm>
            <a:off x="838080" y="533520"/>
            <a:ext cx="739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0" t="18311" r="76481" b="71840"/>
          <a:stretch/>
        </p:blipFill>
        <p:spPr>
          <a:xfrm>
            <a:off x="5257800" y="1828800"/>
            <a:ext cx="1828800" cy="533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0" t="47888" r="76481" b="39442"/>
          <a:stretch/>
        </p:blipFill>
        <p:spPr>
          <a:xfrm>
            <a:off x="5257800" y="3581280"/>
            <a:ext cx="1828800" cy="685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85927" r="76481" b="4223"/>
          <a:stretch/>
        </p:blipFill>
        <p:spPr>
          <a:xfrm>
            <a:off x="5334120" y="5638680"/>
            <a:ext cx="1828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Hypothesis</a:t>
            </a:r>
            <a:br>
              <a:rPr sz="6000"/>
            </a:b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Tes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0" r="0" b="49856"/>
          <a:stretch/>
        </p:blipFill>
        <p:spPr>
          <a:xfrm>
            <a:off x="762120" y="457200"/>
            <a:ext cx="7696080" cy="2895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2155" t="58756" r="10234" b="26274"/>
          <a:stretch/>
        </p:blipFill>
        <p:spPr>
          <a:xfrm>
            <a:off x="762120" y="3352680"/>
            <a:ext cx="7696080" cy="914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33680" t="12242" r="32659" b="79897"/>
          <a:stretch/>
        </p:blipFill>
        <p:spPr>
          <a:xfrm>
            <a:off x="6248520" y="1143000"/>
            <a:ext cx="2133360" cy="685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rcRect l="0" t="50156" r="0" b="4994"/>
          <a:stretch/>
        </p:blipFill>
        <p:spPr>
          <a:xfrm>
            <a:off x="762120" y="4267080"/>
            <a:ext cx="769608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rcRect l="0" t="50156" r="99017" b="34898"/>
          <a:stretch/>
        </p:blipFill>
        <p:spPr>
          <a:xfrm>
            <a:off x="762120" y="3276720"/>
            <a:ext cx="74520" cy="106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rcRect l="0" t="50156" r="99017" b="34898"/>
          <a:stretch/>
        </p:blipFill>
        <p:spPr>
          <a:xfrm>
            <a:off x="8381880" y="3200400"/>
            <a:ext cx="74880" cy="1066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553080" y="3352680"/>
            <a:ext cx="175284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0" t="0" r="0" b="67105"/>
          <a:stretch/>
        </p:blipFill>
        <p:spPr>
          <a:xfrm>
            <a:off x="762120" y="609480"/>
            <a:ext cx="7619760" cy="2514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0" t="32407" r="0" b="10264"/>
          <a:stretch/>
        </p:blipFill>
        <p:spPr>
          <a:xfrm>
            <a:off x="762120" y="3048120"/>
            <a:ext cx="7619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0" b="66579"/>
          <a:stretch/>
        </p:blipFill>
        <p:spPr>
          <a:xfrm>
            <a:off x="838080" y="380880"/>
            <a:ext cx="7315200" cy="1981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0" t="42508" r="0" b="50207"/>
          <a:stretch/>
        </p:blipFill>
        <p:spPr>
          <a:xfrm>
            <a:off x="838080" y="4267080"/>
            <a:ext cx="7315200" cy="685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rcRect l="62502" t="48992" r="23965" b="46501"/>
          <a:stretch/>
        </p:blipFill>
        <p:spPr>
          <a:xfrm>
            <a:off x="6553080" y="4495680"/>
            <a:ext cx="990720" cy="424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rcRect l="50009" t="53874" r="23965" b="40456"/>
          <a:stretch/>
        </p:blipFill>
        <p:spPr>
          <a:xfrm>
            <a:off x="4876920" y="4952880"/>
            <a:ext cx="1904760" cy="533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rcRect l="0" t="31631" r="0" b="43472"/>
          <a:stretch/>
        </p:blipFill>
        <p:spPr>
          <a:xfrm>
            <a:off x="838080" y="228600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rcRect l="0" t="53423" r="0" b="37514"/>
          <a:stretch/>
        </p:blipFill>
        <p:spPr>
          <a:xfrm>
            <a:off x="838080" y="5486400"/>
            <a:ext cx="731520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4876920"/>
            <a:ext cx="40388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4952880"/>
            <a:ext cx="129564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rcRect l="0" t="50156" r="99017" b="34898"/>
          <a:stretch/>
        </p:blipFill>
        <p:spPr>
          <a:xfrm>
            <a:off x="838080" y="4495680"/>
            <a:ext cx="74880" cy="1067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rcRect l="0" t="50156" r="99017" b="34898"/>
          <a:stretch/>
        </p:blipFill>
        <p:spPr>
          <a:xfrm>
            <a:off x="8077320" y="4572000"/>
            <a:ext cx="745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0" b="23507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0" r="0" b="20528"/>
          <a:stretch/>
        </p:blipFill>
        <p:spPr>
          <a:xfrm>
            <a:off x="83808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90720" y="533520"/>
            <a:ext cx="7467480" cy="5105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0" t="66604" r="0" b="18037"/>
          <a:stretch/>
        </p:blipFill>
        <p:spPr>
          <a:xfrm>
            <a:off x="990720" y="5334120"/>
            <a:ext cx="7467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0" r="0" b="53161"/>
          <a:stretch/>
        </p:blipFill>
        <p:spPr>
          <a:xfrm>
            <a:off x="990720" y="457200"/>
            <a:ext cx="7162560" cy="2514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46852" r="0" b="7823"/>
          <a:stretch/>
        </p:blipFill>
        <p:spPr>
          <a:xfrm>
            <a:off x="990720" y="2971800"/>
            <a:ext cx="7162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47127" r="0" b="7047"/>
          <a:stretch/>
        </p:blipFill>
        <p:spPr>
          <a:xfrm>
            <a:off x="609480" y="2666880"/>
            <a:ext cx="7696440" cy="3733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0" r="0" b="53161"/>
          <a:stretch/>
        </p:blipFill>
        <p:spPr>
          <a:xfrm>
            <a:off x="609480" y="380880"/>
            <a:ext cx="7696440" cy="2362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rcRect l="60981" t="64313" r="0" b="22481"/>
          <a:stretch/>
        </p:blipFill>
        <p:spPr>
          <a:xfrm>
            <a:off x="5334120" y="4800600"/>
            <a:ext cx="2971800" cy="1600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800600" y="4114800"/>
            <a:ext cx="327672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rcRect l="53270" t="26336" r="0" b="57880"/>
          <a:stretch/>
        </p:blipFill>
        <p:spPr>
          <a:xfrm>
            <a:off x="5029200" y="3581280"/>
            <a:ext cx="3276720" cy="1371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029200" y="5105520"/>
            <a:ext cx="3049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68580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467840" cy="5333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55890" t="54932" r="2937" b="33801"/>
          <a:stretch/>
        </p:blipFill>
        <p:spPr>
          <a:xfrm>
            <a:off x="2590920" y="609480"/>
            <a:ext cx="3200400" cy="609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609480"/>
            <a:ext cx="175284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609480"/>
            <a:ext cx="25909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20002" t="18065" r="61011" b="70845"/>
          <a:stretch/>
        </p:blipFill>
        <p:spPr>
          <a:xfrm>
            <a:off x="2514600" y="1981080"/>
            <a:ext cx="1447920" cy="609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21784" t="47839" r="59409" b="40579"/>
          <a:stretch/>
        </p:blipFill>
        <p:spPr>
          <a:xfrm>
            <a:off x="2590920" y="3581280"/>
            <a:ext cx="1447560" cy="609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rcRect l="23235" t="84740" r="54555" b="0"/>
          <a:stretch/>
        </p:blipFill>
        <p:spPr>
          <a:xfrm>
            <a:off x="2743200" y="5562720"/>
            <a:ext cx="1676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838080" y="838080"/>
            <a:ext cx="7620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90720" y="838080"/>
            <a:ext cx="7086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066680" y="83808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0" b="9325"/>
          <a:stretch/>
        </p:blipFill>
        <p:spPr>
          <a:xfrm>
            <a:off x="990720" y="68580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0" r="0" b="40155"/>
          <a:stretch/>
        </p:blipFill>
        <p:spPr>
          <a:xfrm>
            <a:off x="609480" y="380880"/>
            <a:ext cx="7848720" cy="4419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61159" r="0" b="7610"/>
          <a:stretch/>
        </p:blipFill>
        <p:spPr>
          <a:xfrm>
            <a:off x="609480" y="4800600"/>
            <a:ext cx="7848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0" t="31881" r="0" b="31456"/>
          <a:stretch/>
        </p:blipFill>
        <p:spPr>
          <a:xfrm>
            <a:off x="990720" y="3809880"/>
            <a:ext cx="7391160" cy="2590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0" t="24634" r="0" b="7610"/>
          <a:stretch/>
        </p:blipFill>
        <p:spPr>
          <a:xfrm>
            <a:off x="990720" y="533520"/>
            <a:ext cx="73911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19026" r="0" b="75128"/>
          <a:stretch/>
        </p:blipFill>
        <p:spPr>
          <a:xfrm>
            <a:off x="533520" y="914400"/>
            <a:ext cx="7848360" cy="457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0" t="4394" r="0" b="86106"/>
          <a:stretch/>
        </p:blipFill>
        <p:spPr>
          <a:xfrm>
            <a:off x="533520" y="304920"/>
            <a:ext cx="7848360" cy="685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724280" y="1295280"/>
            <a:ext cx="457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rcRect l="0" t="24233" r="0" b="19076"/>
          <a:stretch/>
        </p:blipFill>
        <p:spPr>
          <a:xfrm>
            <a:off x="533520" y="1371600"/>
            <a:ext cx="784836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rcRect l="0" t="73651" r="0" b="7610"/>
          <a:stretch/>
        </p:blipFill>
        <p:spPr>
          <a:xfrm>
            <a:off x="533520" y="5410080"/>
            <a:ext cx="78483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0" r="0" b="30367"/>
          <a:stretch/>
        </p:blipFill>
        <p:spPr>
          <a:xfrm>
            <a:off x="914400" y="609480"/>
            <a:ext cx="7391520" cy="5639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1928" t="75291" r="26810" b="17186"/>
          <a:stretch/>
        </p:blipFill>
        <p:spPr>
          <a:xfrm>
            <a:off x="1143000" y="1523880"/>
            <a:ext cx="4191120" cy="609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rcRect l="3317" t="83765" r="64544" b="10602"/>
          <a:stretch/>
        </p:blipFill>
        <p:spPr>
          <a:xfrm>
            <a:off x="5334120" y="1676520"/>
            <a:ext cx="20574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The P-val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239240" cy="3809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4267080"/>
            <a:ext cx="3886200" cy="2057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3353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7086600" cy="3105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219320" y="365760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91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619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0" t="0" r="0" b="36235"/>
          <a:stretch/>
        </p:blipFill>
        <p:spPr>
          <a:xfrm>
            <a:off x="457200" y="685800"/>
            <a:ext cx="8229600" cy="3352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26261" t="51533" r="61624" b="37889"/>
          <a:stretch/>
        </p:blipFill>
        <p:spPr>
          <a:xfrm>
            <a:off x="3733920" y="3429000"/>
            <a:ext cx="990360" cy="609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rcRect l="45455" t="62135" r="50511" b="25767"/>
          <a:stretch/>
        </p:blipFill>
        <p:spPr>
          <a:xfrm>
            <a:off x="3429000" y="3429000"/>
            <a:ext cx="380880" cy="685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rcRect l="0" t="63789" r="0" b="-2877"/>
          <a:stretch/>
        </p:blipFill>
        <p:spPr>
          <a:xfrm>
            <a:off x="457200" y="4343400"/>
            <a:ext cx="8229600" cy="2057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" y="4038480"/>
            <a:ext cx="8229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0" t="0" r="0" b="17459"/>
          <a:stretch/>
        </p:blipFill>
        <p:spPr>
          <a:xfrm>
            <a:off x="914400" y="304920"/>
            <a:ext cx="7543800" cy="2133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14400" y="2590920"/>
            <a:ext cx="7543800" cy="3886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59602" t="13739" r="22221" b="76478"/>
          <a:stretch/>
        </p:blipFill>
        <p:spPr>
          <a:xfrm>
            <a:off x="1447920" y="838080"/>
            <a:ext cx="13716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0" t="0" r="0" b="17459"/>
          <a:stretch/>
        </p:blipFill>
        <p:spPr>
          <a:xfrm>
            <a:off x="914400" y="990720"/>
            <a:ext cx="7543800" cy="2133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7543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543800" cy="2362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543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619760" cy="3276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Confidence Interv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2895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7467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0" t="0" r="0" b="36993"/>
          <a:stretch/>
        </p:blipFill>
        <p:spPr>
          <a:xfrm>
            <a:off x="762120" y="609480"/>
            <a:ext cx="7772400" cy="3505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419720" y="4114800"/>
            <a:ext cx="4572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rcRect l="21001" t="60278" r="22998" b="0"/>
          <a:stretch/>
        </p:blipFill>
        <p:spPr>
          <a:xfrm>
            <a:off x="4800600" y="4114800"/>
            <a:ext cx="3733920" cy="2209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rcRect l="24508" t="60280" r="24508" b="0"/>
          <a:stretch/>
        </p:blipFill>
        <p:spPr>
          <a:xfrm>
            <a:off x="762120" y="4114800"/>
            <a:ext cx="3657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24890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43800" cy="1843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438280" y="4952880"/>
            <a:ext cx="441972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7620120" cy="1981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543800" cy="1955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762120" y="228600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2438280" y="3733920"/>
            <a:ext cx="44197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705720" cy="3327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6705720" cy="1066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143000" y="4952880"/>
            <a:ext cx="6705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3098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746784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24880" y="5257800"/>
            <a:ext cx="82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we interpret this confidence interva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Statistical Inference</a:t>
            </a:r>
            <a:br>
              <a:rPr sz="6000"/>
            </a:b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772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15200" cy="1143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7315200" cy="1600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7315200" cy="1828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996120" y="1676520"/>
            <a:ext cx="128880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96480" y="3809880"/>
            <a:ext cx="56628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53200" y="2300400"/>
            <a:ext cx="89244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45360" y="4419720"/>
            <a:ext cx="71424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3809880"/>
            <a:ext cx="6705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1676520"/>
            <a:ext cx="60199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543800" cy="1917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7543800" cy="1130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7543800" cy="1562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685800" y="3733920"/>
            <a:ext cx="7543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315200" cy="3181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066680" y="4267080"/>
            <a:ext cx="73152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858000" y="5562720"/>
            <a:ext cx="1447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7061"/>
          <a:stretch/>
        </p:blipFill>
        <p:spPr>
          <a:xfrm>
            <a:off x="990720" y="83808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143000" y="914400"/>
            <a:ext cx="7010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14T21:29:09Z</dcterms:modified>
  <cp:revision>1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</Properties>
</file>